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447920" y="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895480" y="342900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i minori di 18 anni iscritti ai CTP per il conseguimento della Licenza Med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48520"/>
            <a:ext cx="9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Fonti: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INDIRE, CTP e CFP della provincia di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6680" y="2209680"/>
          <a:ext cx="7315200" cy="26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31520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바탕"/>
              </a:rPr>
              <a:t>STUDENTI MINORI DI 18 ANNI ISCRITTI AI CTP IN PROVINCIA DI BOLOGNA PER IL CONSEGUIMENTO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바탕"/>
              </a:rPr>
              <a:t>DELLA LICENZ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바탕"/>
              </a:rPr>
              <a:t>STUDENTI MINORI 18 ANNI ISCRITTI AI CTP IN PROVINCIA DI BOLOGNA PER IL CONSEGUIMENTO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바탕"/>
              </a:rPr>
              <a:t>DELLA LICENZ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00200" y="1523880"/>
          <a:ext cx="632448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3244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45:53Z</dcterms:created>
  <dc:creator>CASANOVA MANUELA</dc:creator>
  <dc:description/>
  <dc:language>en-US</dc:language>
  <cp:lastModifiedBy>CASANOVA MANUELA</cp:lastModifiedBy>
  <dcterms:modified xsi:type="dcterms:W3CDTF">2008-12-11T14:35:22Z</dcterms:modified>
  <cp:revision>31</cp:revision>
  <dc:subject/>
  <dc:title>NON UNO DI MENO: UNA SFIDA POSSIBILE Verso un nuovo patto territoriale per il contrasto alla dispersione scolastica e formativa</dc:title>
</cp:coreProperties>
</file>